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297-EF19-40B5-AF8E-791A05BB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AD33-D33F-4D8D-9BE1-B17A76A7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673F-4951-4831-BC02-D6691B2C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4A79-C407-42C4-B805-3095F3F7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8BCE-7925-4A3D-A4BA-F1FF0EC5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C2E1-0902-4612-ACA1-A3EDF0C0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777A-EABA-4EE5-BFAD-1CBA26244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E0A3-6069-4D10-A773-75807D8A7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B807-2DB8-40F1-825B-B717C3C5F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BEFF-A2F1-4717-A818-70F5A31E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37B7-B278-4A4F-82B5-F6FB3418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EEE3-10DD-44B2-A425-CF01420E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F4DD-533F-41AD-B1CD-CD96C1EB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34BC-AFC3-4BB9-B59B-320D2DDA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09F5-D147-4C77-AB9C-7A383875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3B3C-24B1-405F-9581-2FDB2F43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2DBE-2B86-4CCA-A0F0-0A873DBFE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A2C24-E57C-4614-BE4E-3C30711A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09F3D-DD4C-4FB9-A4C1-5A4C0FB5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814DE-B742-4912-9726-C7961664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7AED2-4CCE-4663-98AB-9A7F26DC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C254F-01EA-4781-A77A-7677B846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AB57-DF6F-4496-BDC2-DD38F100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AA7C0-7FF6-4649-AFCC-6ED4DAB7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48FD7-FAC6-422A-93E1-633ED0D3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0CA30-A213-41AA-8EFE-2099DCF8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9E781-5028-445D-82A8-9FBADDB91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544F-4C85-4E7A-8942-121CDBCF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0FBA1-FD6D-444F-BEBF-8091830C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EB415-70CB-422A-8D9B-8FFBE100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699E8-9D8A-4D52-AB7A-03A675AC1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31259-E2E3-4D1D-9A24-45F6BA81F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31CC9-0A99-4CD8-82CE-7D653AD0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6A3-4640-4FDC-AEC2-CA2398C2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36547-3D28-4B78-984E-B5DBCC53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3221C-3D4C-47B2-99D6-767219E9C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1B65C-9CBF-46DA-B363-967EE349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0EB25-3620-4D20-BA2B-09BD10F5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7E31C-2781-4BF9-9442-CE49A9F5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A881C-FB79-4E34-B52F-BF3BEA07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8F21B-7190-43E8-9B1D-FAE45D7A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55281-2357-4532-8DC8-1F150DF0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5D542-9695-4231-9B1C-B8B8E4EA0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C96D0-F3FC-4D03-B130-DDD2E50E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869-7002-4F06-B4CE-F4E0CA08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069AA-CB0C-48D5-8F88-6A104FD9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38CA7-944D-4DEE-820F-D84F5166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E1ACD-F155-4434-8F67-8F5AF577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072E2-8F99-46E3-A574-88097B4F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61BCD-D9EE-44E3-8AB2-3DB3DB2D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62169-BDC0-4DDB-B0D4-43F33802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59899-828B-4923-B687-26A1E8CC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DB302-330B-4861-A47B-F6E08FCE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49236-30E5-497F-845B-8DB44B82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A7BD4-4402-4C9D-A884-3F9D741A3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7C4B-6D44-4108-BA06-C68B3DCFE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7A5FC-5A23-4D0D-80E0-BAE94BA4D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ED2A9-B495-4336-8901-9923B3E2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8BE55-B9EE-4D57-97F7-01D29BDD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F9894-90F4-4D81-B4D1-9696435A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FE098-93D9-4558-B57F-A10F5F7A3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7FA02-BC5F-4909-A3D0-33534951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052CC-EDC2-4C1B-B11D-27C2FF86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08AF9-DC4A-477F-A45B-887D71E3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BE0DB-657C-4283-AAA0-CECBC30A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B9252-42D2-42EA-9ED0-9A6956B0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7F8C-1E69-4376-A9B9-078A6215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D9138-0E48-4D68-8C6A-B87D4EEC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705144-3C65-40FA-9B01-44C69F9A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BDBE3-5CD9-491A-BBEE-645AF59F4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CE746-8483-405D-9832-4A548322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9A4FE-AB3F-45E4-9EA8-40D43257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3F7DB-C74D-460B-B626-C35721A4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1300E-B4C2-4391-AD15-01890256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2DB932-CFCC-45FC-BA34-45882C43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4BB1A-C79F-4107-A3BD-5683E872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DF000-9802-454C-81C7-59438FBE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97DF-FEF6-4DB0-A8B6-843305C7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50D9D-DDA3-4F88-8169-F6D6608E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44FEA-FD73-4637-9DFC-A2D28AB5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2A3E6-CD8B-4F60-A629-4937FB44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01FF8C-24A3-4ADA-BD39-1C7AE4EE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8F92F-D3AF-4045-A9D3-4301AE081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315F-ED8D-4D0E-9D61-A349A64C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9283-7CD6-4C42-B2EF-EC138EFDD259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047E0-B4A0-4663-A531-CFCF2911127F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9b2d1f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9b2d1f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797171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79717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6A6B-7C4B-447E-AAAD-8029470F1EA4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395B-877E-4FB4-84A2-0DA6EEF30691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79717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E432-EBEA-42E0-81A5-8A184456AE3F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0357-80D4-41AC-AE95-E5D09BCF0E5D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A09E-42CB-4C00-8B50-692411D6AE4B}" type="slidenum">
              <a:rPr b="0" lang="en-US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186760" cy="25174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A short introduction to ideas and uses for Science and Social Studies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Paul Irwin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2012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040" y="51264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Using Strip Design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9144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Open Strip Design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on “Create new”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oose your layou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itle your book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ap the bottom left “+” 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o choose Layou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2" name="Picture 9" descr="stripdesign.gif"/>
          <p:cNvPicPr/>
          <p:nvPr/>
        </p:nvPicPr>
        <p:blipFill>
          <a:blip r:embed="rId1"/>
          <a:stretch/>
        </p:blipFill>
        <p:spPr>
          <a:xfrm>
            <a:off x="1295280" y="380880"/>
            <a:ext cx="1368720" cy="1676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5715000" y="1600200"/>
            <a:ext cx="3068640" cy="3657600"/>
          </a:xfrm>
          <a:prstGeom prst="rect">
            <a:avLst/>
          </a:prstGeom>
          <a:ln w="0">
            <a:noFill/>
          </a:ln>
        </p:spPr>
      </p:pic>
      <p:pic>
        <p:nvPicPr>
          <p:cNvPr id="374" name="Straight Arrow Connector 13" descr=""/>
          <p:cNvPicPr/>
          <p:nvPr/>
        </p:nvPicPr>
        <p:blipFill>
          <a:blip r:embed="rId3"/>
          <a:stretch/>
        </p:blipFill>
        <p:spPr>
          <a:xfrm>
            <a:off x="4479840" y="1657440"/>
            <a:ext cx="30798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066680" y="2895480"/>
            <a:ext cx="2094120" cy="27432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040" y="51264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Using Strip Design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pic>
        <p:nvPicPr>
          <p:cNvPr id="377" name="Picture 9" descr="stripdesign.gif"/>
          <p:cNvPicPr/>
          <p:nvPr/>
        </p:nvPicPr>
        <p:blipFill>
          <a:blip r:embed="rId2"/>
          <a:stretch/>
        </p:blipFill>
        <p:spPr>
          <a:xfrm>
            <a:off x="1295280" y="380880"/>
            <a:ext cx="1368720" cy="16765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"/>
          <p:cNvPicPr/>
          <p:nvPr/>
        </p:nvPicPr>
        <p:blipFill>
          <a:blip r:embed="rId3"/>
          <a:stretch/>
        </p:blipFill>
        <p:spPr>
          <a:xfrm>
            <a:off x="6324480" y="1676520"/>
            <a:ext cx="2186280" cy="45720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9144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lect templat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hoose image source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e9e5d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0" name="Straight Arrow Connector 13" descr=""/>
          <p:cNvPicPr/>
          <p:nvPr/>
        </p:nvPicPr>
        <p:blipFill>
          <a:blip r:embed="rId4"/>
          <a:stretch/>
        </p:blipFill>
        <p:spPr>
          <a:xfrm>
            <a:off x="3956040" y="1579680"/>
            <a:ext cx="3835440" cy="1103040"/>
          </a:xfrm>
          <a:prstGeom prst="rect">
            <a:avLst/>
          </a:prstGeom>
          <a:ln w="0">
            <a:noFill/>
          </a:ln>
        </p:spPr>
      </p:pic>
      <p:pic>
        <p:nvPicPr>
          <p:cNvPr id="381" name="Straight Arrow Connector 14" descr=""/>
          <p:cNvPicPr/>
          <p:nvPr/>
        </p:nvPicPr>
        <p:blipFill>
          <a:blip r:embed="rId5"/>
          <a:stretch/>
        </p:blipFill>
        <p:spPr>
          <a:xfrm>
            <a:off x="2951280" y="3255840"/>
            <a:ext cx="1706400" cy="9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040" y="51264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Using Strip Design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pic>
        <p:nvPicPr>
          <p:cNvPr id="383" name="Picture 9" descr="stripdesign.gif"/>
          <p:cNvPicPr/>
          <p:nvPr/>
        </p:nvPicPr>
        <p:blipFill>
          <a:blip r:embed="rId1"/>
          <a:stretch/>
        </p:blipFill>
        <p:spPr>
          <a:xfrm>
            <a:off x="1295280" y="380880"/>
            <a:ext cx="1368720" cy="1676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"/>
          <p:cNvPicPr/>
          <p:nvPr/>
        </p:nvPicPr>
        <p:blipFill>
          <a:blip r:embed="rId2"/>
          <a:stretch/>
        </p:blipFill>
        <p:spPr>
          <a:xfrm>
            <a:off x="5105520" y="1981080"/>
            <a:ext cx="3141720" cy="4114800"/>
          </a:xfrm>
          <a:prstGeom prst="rect">
            <a:avLst/>
          </a:prstGeom>
          <a:ln w="0">
            <a:noFill/>
          </a:ln>
        </p:spPr>
      </p:pic>
      <p:sp>
        <p:nvSpPr>
          <p:cNvPr id="385" name="TextBox 7"/>
          <p:cNvSpPr/>
          <p:nvPr/>
        </p:nvSpPr>
        <p:spPr>
          <a:xfrm>
            <a:off x="856800" y="2819520"/>
            <a:ext cx="4144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Click on “Drawing”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Draw or type your title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text, or picture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Add a map to your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  layout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Straight Arrow Connector 13" descr=""/>
          <p:cNvPicPr/>
          <p:nvPr/>
        </p:nvPicPr>
        <p:blipFill>
          <a:blip r:embed="rId3"/>
          <a:stretch/>
        </p:blipFill>
        <p:spPr>
          <a:xfrm>
            <a:off x="3498840" y="3103560"/>
            <a:ext cx="4370400" cy="1103400"/>
          </a:xfrm>
          <a:prstGeom prst="rect">
            <a:avLst/>
          </a:prstGeom>
          <a:ln w="0">
            <a:noFill/>
          </a:ln>
        </p:spPr>
      </p:pic>
      <p:pic>
        <p:nvPicPr>
          <p:cNvPr id="387" name="Straight Arrow Connector 11" descr=""/>
          <p:cNvPicPr/>
          <p:nvPr/>
        </p:nvPicPr>
        <p:blipFill>
          <a:blip r:embed="rId4"/>
          <a:stretch/>
        </p:blipFill>
        <p:spPr>
          <a:xfrm>
            <a:off x="3956040" y="3181320"/>
            <a:ext cx="315108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51264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Consolas"/>
              </a:rPr>
              <a:t>Using Strip Design</a:t>
            </a:r>
            <a:endParaRPr b="0" lang="en-US" sz="4000" spc="-1" strike="noStrike">
              <a:solidFill>
                <a:srgbClr val="f0e8d5"/>
              </a:solidFill>
              <a:latin typeface="Consolas"/>
            </a:endParaRPr>
          </a:p>
        </p:txBody>
      </p:sp>
      <p:pic>
        <p:nvPicPr>
          <p:cNvPr id="389" name="Picture 9" descr="stripdesign.gif"/>
          <p:cNvPicPr/>
          <p:nvPr/>
        </p:nvPicPr>
        <p:blipFill>
          <a:blip r:embed="rId1"/>
          <a:stretch/>
        </p:blipFill>
        <p:spPr>
          <a:xfrm>
            <a:off x="1295280" y="380880"/>
            <a:ext cx="1368720" cy="16765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stripdesignfinal.jpg"/>
          <p:cNvPicPr/>
          <p:nvPr/>
        </p:nvPicPr>
        <p:blipFill>
          <a:blip r:embed="rId2"/>
          <a:stretch/>
        </p:blipFill>
        <p:spPr>
          <a:xfrm>
            <a:off x="3962520" y="2133720"/>
            <a:ext cx="4806720" cy="3581280"/>
          </a:xfrm>
          <a:prstGeom prst="rect">
            <a:avLst/>
          </a:prstGeom>
          <a:ln w="0">
            <a:noFill/>
          </a:ln>
        </p:spPr>
      </p:pic>
      <p:sp>
        <p:nvSpPr>
          <p:cNvPr id="391" name="TextBox 14"/>
          <p:cNvSpPr/>
          <p:nvPr/>
        </p:nvSpPr>
        <p:spPr>
          <a:xfrm>
            <a:off x="762120" y="327672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reating diagram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low chart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quence chart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for illustrating/demonstrat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a process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Vocabulary illustrations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with words/definitions 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Geographical locations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Retelling big ideas with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illustrations documenting specific  characteristics using photos and label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    (properties of a mineral)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5:55:30Z</dcterms:created>
  <dc:creator>irwin-knight</dc:creator>
  <dc:description/>
  <dc:language>en-US</dc:language>
  <cp:lastModifiedBy>irwin-knight</cp:lastModifiedBy>
  <dcterms:modified xsi:type="dcterms:W3CDTF">2012-04-20T17:36:05Z</dcterms:modified>
  <cp:revision>10</cp:revision>
  <dc:subject/>
  <dc:title>Science and Social Studies using  eBook Magic</dc:title>
</cp:coreProperties>
</file>